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030-51A8-4C7C-84E8-DDE1D983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5D6-97F6-4F1B-B311-B20271F4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F59-965B-407B-A05E-21849736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DFE-68E5-4C14-8E4E-C429A6BC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CB7F-5500-4D78-BF67-D0CCE286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32D1-569A-4668-99E0-722BCD46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096B-C205-45DD-B577-5E2E4DAA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3760-4CA6-4337-80C2-3E002806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DF39-4205-496F-8A4C-28EAA69A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86C2-F99F-480B-8506-AD3158C8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26EC-3539-4B8D-BF8C-DAEAA7E7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C1F7-7890-440F-8479-2D39BAE7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4A8C-36C7-4AE3-98BA-FBD48E5E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6310-5960-436E-85F5-0A07967F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8338-1244-49AA-8A5F-508D3C28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D564-0D02-43CB-BB6F-F355D7BD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FD90-0C9F-4F05-8B7D-C1208A34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3AD-4D62-4A7B-9FAA-49B0FC93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9CF3-EF60-4754-B327-9F0EBA76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B6A-B5E9-4FEF-B406-D6A0818C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4005-4FD9-4683-BE64-2F8AA895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9ED-2A25-4025-A6BD-4DA5206E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392-587C-476A-A90D-1EB60B2B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584-6F19-489A-9DD1-FD3CC08E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A68F-F9C6-4773-BA19-23B32FB76094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7E62-8509-42AB-AD13-DFF526C1EC6C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KOREAN LANGUAGE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LVEL 1 (NOVICE)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General Course Information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Instructor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Transitional Page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3321720"/>
            <a:ext cx="9144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400" spc="-1" strike="noStrike">
              <a:solidFill>
                <a:srgbClr val="000000"/>
              </a:solidFill>
              <a:latin typeface="Eurostile"/>
              <a:ea typeface="굴림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Your Topic Goes Here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Elements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www.animationfactory.com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92" name="Picture 224" descr="Z:\newtek\_backgrounds_1.02\Tim\powerpoint templates\101-120\cloud_skipper\cloud_skipper_prt.jpg"/>
          <p:cNvPicPr/>
          <p:nvPr/>
        </p:nvPicPr>
        <p:blipFill>
          <a:blip r:embed="rId1"/>
          <a:stretch/>
        </p:blipFill>
        <p:spPr>
          <a:xfrm>
            <a:off x="6983280" y="5218200"/>
            <a:ext cx="2008440" cy="1506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5" descr="Z:\newtek\_backgrounds_1.02\Tim\powerpoint templates\101-120\cloud_skipper\cloud_skipper_qx.jpg"/>
          <p:cNvPicPr/>
          <p:nvPr/>
        </p:nvPicPr>
        <p:blipFill>
          <a:blip r:embed="rId2"/>
          <a:stretch/>
        </p:blipFill>
        <p:spPr>
          <a:xfrm>
            <a:off x="152280" y="5218200"/>
            <a:ext cx="2008440" cy="1506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26" descr="Z:\newtek\_backgrounds_1.02\Tim\powerpoint templates\101-120\cloud_skipper\cloud_skipper_sld.jpg"/>
          <p:cNvPicPr/>
          <p:nvPr/>
        </p:nvPicPr>
        <p:blipFill>
          <a:blip r:embed="rId3"/>
          <a:stretch/>
        </p:blipFill>
        <p:spPr>
          <a:xfrm>
            <a:off x="2428920" y="5218200"/>
            <a:ext cx="2009880" cy="150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7" descr="Z:\newtek\_backgrounds_1.02\Tim\powerpoint templates\101-120\cloud_skipper\cloud_skipper_trs.jpg"/>
          <p:cNvPicPr/>
          <p:nvPr/>
        </p:nvPicPr>
        <p:blipFill>
          <a:blip r:embed="rId4"/>
          <a:stretch/>
        </p:blipFill>
        <p:spPr>
          <a:xfrm>
            <a:off x="4705200" y="5218200"/>
            <a:ext cx="2009880" cy="150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y</cp:lastModifiedBy>
  <dcterms:modified xsi:type="dcterms:W3CDTF">2012-07-26T08:41:49Z</dcterms:modified>
  <cp:revision>1</cp:revision>
  <dc:subject/>
  <dc:title>KOREAN LANGUAGE</dc:title>
</cp:coreProperties>
</file>